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9.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0510D-206C-4B04-8256-E8AA7E571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E68C2-F924-4A09-A65F-72AF6E8DE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68E76-40D0-43ED-95B0-E40961195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74F68-0EE0-4FA9-AA9F-37BC0956D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10B59-6A68-4ACF-8FA8-ECBD9B8C6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02CF7-40F4-4AC0-BFE7-B39287AFE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A546F-4094-4416-95BD-B5D214493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57843-394D-40ED-842B-6598F554A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DA51A-F64D-4FFD-B0D1-11225DBDC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C0543-61A8-4072-923C-68F2995F8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05694-8798-432F-8F35-9429ED40B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EE828-6CA8-4C15-88E1-87DCAFE23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4D29D-C186-4009-91A7-3464A28B6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271F0-DCCD-4FB3-ADFC-5263EBE43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35BD3-4B2C-41F5-855F-3561E90EB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B64BE-1C32-4168-84B9-D882B66A9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AE327-7D4C-4969-A534-018B90FE2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097BD6-B8E6-425B-892E-32E5E9BA66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3E8CC2-1D9F-46BF-BDB1-280490686F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1BC39-7A05-4A8B-BE29-3E2954687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5EF6C-C480-4E8C-9C30-F505B58175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F7B4A-95B3-4864-9BD2-492F692EA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F6B8F-C36D-4B82-BD3E-F80BC977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4E652-2BD8-4D32-85D9-F235A2C33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5F8DF-08DF-4AA5-8C8D-C8012A6FA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ED9BE-DFA1-472C-A683-A03D6FF06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80F71-7FD5-42A7-9F16-DBB4B81A9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98249-7656-4775-B23D-09952EFDF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96952D-51D3-4D9F-B308-FDC1950E0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F902D0-2B43-4D40-9F16-B51E00F754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7E4490-C342-40C0-85B1-C4FE5623CB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13D747-00ED-4D09-A2EF-196AFFE646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77AAA-6A07-45A0-BDEE-3BC188EF1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2C371-A7AA-455B-8FE5-E28C37B95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B621A4-9D91-484F-A8B6-D3786813C4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3B5F3-09F2-4905-901B-7A4978A360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817353-E02A-4FBB-B942-2B450005D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4287B-961E-49A1-88D4-1C01F8710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AA37B-4817-4E64-B328-AB6B7DEA1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57F7B-593B-406B-8310-91BAEABED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538F02-34B6-4A4A-A4A5-0306F1537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FC6ADC-51E7-450C-8907-77B416D68E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758C5-B08D-4AA0-984C-593CAB1047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3647F2-149C-4423-801E-EFD3443408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817A3-964D-4DD7-9A82-CCEF2696C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D09339-17B9-4DBF-B9D1-0C4C5BC62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3CF63-7C4D-443C-8542-F01771931B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C37510-72BC-48FC-BA3D-4D06B7FBE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E63B55-6D9A-4E88-886E-F46789EC4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CADEA-363A-4D33-9380-3804E6072C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2E29D6-2C7C-4266-8E0B-5093F190D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6268E5-DE41-4A92-9FD7-5DB5A972E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5E24B-B096-429B-AD55-4130D5EEE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B1A8B-ABE3-4821-B738-4B3DF465BB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0F42CE-3EF8-4CCA-A9AC-C28F6165C4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38F02-1F6A-479A-B220-5437AE4B8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26B0FB-02C9-4F83-BF5C-6915789C07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20606C-994D-426B-BB46-D7124E1E6A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D9FA5-D826-46F0-A41A-1973A5194F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B1A2DF-41F7-4A28-9EAC-D95F3A5142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84E5B0-ACDF-469A-92A8-A0ECAB785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89CDB2-609E-4904-B614-814AC73C5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18FC0-0AA0-4969-82B4-D22AD12EDA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6895A-C06B-4753-89A4-133E60E42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C8254-34BC-4900-B389-B9C972F70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7A6A5-361A-458C-99B0-F55097CF77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B231-5B3F-4663-B73B-2BD2B6202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98D9E0-98EF-4302-A886-ADB0C2A18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BBA303-991B-4BF4-BA76-515D2F48FA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934F95-BB31-42B5-A484-B1F0ED21A6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05B2F2-0719-4394-9BF3-ABB9944C33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65AC74-DE8D-4DB4-924F-56799F1DC9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4C5215-0050-459C-8999-EA381CD669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AC0FD9-BA69-4606-8E58-6ED140136E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40148F-943F-4587-B453-9CF226212A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0213EE-682D-489E-974C-DE7349593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C61BA3-8079-4D67-A9D8-C6A4BE173C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0336-2C17-4DDF-9052-CF1406D6A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7E08C-568E-493D-AF4A-6C01E9A39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F6094-BAB0-43D0-8582-A6E2C4B662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89973-671C-45AF-9A51-8731D18D99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13D5A3-5A96-487A-B8DB-CAF85FE2C6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10EEF1-5FE8-4B1D-A0E5-E00B05FA47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8CF0-F78B-4656-B4FD-88F043EE5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6D8C-A087-436B-A19E-EFB7A59AF49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A518-87A8-4477-B19D-69006D07798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67B8-B253-489C-981A-33237F77F15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F8D2-1F96-4E34-B259-44CE30CD93C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CDDD-CC70-40D5-9526-7D24507E9180}"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6144-7E2F-46A5-9B0B-47A7C890F27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0873-0715-4F96-AB23-C563D58B2EF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0012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72314"/>
                </a:solidFill>
                <a:latin typeface="Corbel"/>
              </a:rPr>
              <a:t>Осциллограф</a:t>
            </a:r>
            <a:endParaRPr b="0" lang="en-US" sz="6000" spc="-1" strike="noStrike">
              <a:solidFill>
                <a:srgbClr val="572314"/>
              </a:solidFill>
              <a:latin typeface="Corbel"/>
            </a:endParaRPr>
          </a:p>
        </p:txBody>
      </p:sp>
      <p:sp>
        <p:nvSpPr>
          <p:cNvPr id="319" name="PlaceHolder 2"/>
          <p:cNvSpPr>
            <a:spLocks noGrp="1"/>
          </p:cNvSpPr>
          <p:nvPr>
            <p:ph type="subTitle"/>
          </p:nvPr>
        </p:nvSpPr>
        <p:spPr>
          <a:xfrm>
            <a:off x="5571720" y="4928760"/>
            <a:ext cx="3406680" cy="1752840"/>
          </a:xfrm>
          <a:prstGeom prst="rect">
            <a:avLst/>
          </a:prstGeom>
          <a:noFill/>
          <a:ln w="0">
            <a:noFill/>
          </a:ln>
        </p:spPr>
        <p:txBody>
          <a:bodyPr lIns="90000" rIns="90000" tIns="0" bIns="46800" anchor="t">
            <a:noAutofit/>
          </a:bodyPr>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Презентацию выполнил:</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студент </a:t>
            </a:r>
            <a:r>
              <a:rPr b="0" lang="en-US" sz="2200" spc="-1" strike="noStrike">
                <a:solidFill>
                  <a:srgbClr val="320e04"/>
                </a:solidFill>
                <a:latin typeface="Gill Sans MT"/>
              </a:rPr>
              <a:t>II </a:t>
            </a:r>
            <a:r>
              <a:rPr b="0" lang="ru-RU" sz="2200" spc="-1" strike="noStrike">
                <a:solidFill>
                  <a:srgbClr val="320e04"/>
                </a:solidFill>
                <a:latin typeface="Corbel"/>
              </a:rPr>
              <a:t>курса </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спец. ВТиПО</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КГУ им. А. Байтурсынова</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Губенко Иван</a:t>
            </a:r>
            <a:endParaRPr b="0" lang="en-US" sz="2200" spc="-1" strike="noStrike">
              <a:solidFill>
                <a:srgbClr val="000000"/>
              </a:solidFill>
              <a:latin typeface="Corbel"/>
            </a:endParaRPr>
          </a:p>
        </p:txBody>
      </p:sp>
      <p:pic>
        <p:nvPicPr>
          <p:cNvPr id="320" name="Picture 2" descr="C:\Users\ING\Desktop\УНИВЕР\I КУРС\ksu logobmp.bmp"/>
          <p:cNvPicPr/>
          <p:nvPr/>
        </p:nvPicPr>
        <p:blipFill>
          <a:blip r:embed="rId1"/>
          <a:stretch/>
        </p:blipFill>
        <p:spPr>
          <a:xfrm>
            <a:off x="7358040" y="214200"/>
            <a:ext cx="1643040" cy="1643040"/>
          </a:xfrm>
          <a:prstGeom prst="rect">
            <a:avLst/>
          </a:prstGeom>
          <a:ln w="0">
            <a:noFill/>
          </a:ln>
        </p:spPr>
      </p:pic>
      <p:pic>
        <p:nvPicPr>
          <p:cNvPr id="321" name="Picture 3" descr=""/>
          <p:cNvPicPr/>
          <p:nvPr/>
        </p:nvPicPr>
        <p:blipFill>
          <a:blip r:embed="rId2"/>
          <a:stretch/>
        </p:blipFill>
        <p:spPr>
          <a:xfrm>
            <a:off x="1285920" y="4414680"/>
            <a:ext cx="4286160" cy="2443320"/>
          </a:xfrm>
          <a:prstGeom prst="rect">
            <a:avLst/>
          </a:prstGeom>
          <a:ln w="0">
            <a:noFill/>
          </a:ln>
        </p:spPr>
      </p:pic>
      <p:pic>
        <p:nvPicPr>
          <p:cNvPr id="322" name="Picture 4" descr=""/>
          <p:cNvPicPr/>
          <p:nvPr/>
        </p:nvPicPr>
        <p:blipFill>
          <a:blip r:embed="rId3"/>
          <a:stretch/>
        </p:blipFill>
        <p:spPr>
          <a:xfrm>
            <a:off x="3357720" y="642960"/>
            <a:ext cx="3151080" cy="24289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00080" y="274320"/>
            <a:ext cx="82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Измерение постоянного напряжения</a:t>
            </a:r>
            <a:endParaRPr b="0" lang="en-US" sz="3900" spc="-1" strike="noStrike">
              <a:solidFill>
                <a:srgbClr val="572314"/>
              </a:solidFill>
              <a:latin typeface="Corbel"/>
            </a:endParaRPr>
          </a:p>
        </p:txBody>
      </p:sp>
      <p:sp>
        <p:nvSpPr>
          <p:cNvPr id="352" name=""/>
          <p:cNvSpPr txBox="1"/>
          <p:nvPr/>
        </p:nvSpPr>
        <p:spPr>
          <a:xfrm>
            <a:off x="714240" y="1642680"/>
            <a:ext cx="521496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Насколько сместилась линия развертки? Почти на 2 деления. Значит, напряжение гальванического элемента немногим менее 2 В (цена деления сетки 1 В/дел.). Хотите точнее измерить напряжение? Нажмите кнопку «0,5—50» переключателя </a:t>
            </a:r>
            <a:r>
              <a:rPr b="0" lang="en-US" sz="1300" spc="-1" strike="noStrike">
                <a:solidFill>
                  <a:srgbClr val="000000"/>
                </a:solidFill>
                <a:latin typeface="Gill Sans MT"/>
              </a:rPr>
              <a:t>I </a:t>
            </a:r>
            <a:r>
              <a:rPr b="0" lang="ru-RU" sz="1300" spc="-1" strike="noStrike">
                <a:solidFill>
                  <a:srgbClr val="000000"/>
                </a:solidFill>
                <a:latin typeface="Corbel"/>
              </a:rPr>
              <a:t>и кнопку аттенюатора 2 — цена деления станет равной 0,5 В/дел. Замкните между собой входные щупы (чтобы снять «размытость» лиЛш из-за наводок) и сместите ручкой 17 линию развертки на 2 деления вниз (рис. 7, в) — это будет теперь условный нуль отсчета (таково второе назначение ручки 17, о котором упоминалось выше). Подключите «земляной» щуп к минусовому выводу элемента, а входным щупом коснитесь плюсового вывода.</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На сколько делений сместилась линия? Примерно на 3,6 (десятые доли де­лений определяют по рискам на вертикальной и горизонтальной линиях масштаб­ной сетки). Значит, напряжение гальванического элемента составляет 0,5 В/дел. </a:t>
            </a:r>
            <a:r>
              <a:rPr b="0" lang="en-US" sz="1300" spc="-1" strike="noStrike">
                <a:solidFill>
                  <a:srgbClr val="000000"/>
                </a:solidFill>
                <a:latin typeface="Gill Sans MT"/>
              </a:rPr>
              <a:t>X </a:t>
            </a:r>
            <a:r>
              <a:rPr b="0" lang="ru-RU" sz="1300" spc="-1" strike="noStrike">
                <a:solidFill>
                  <a:srgbClr val="000000"/>
                </a:solidFill>
                <a:latin typeface="Corbel"/>
              </a:rPr>
              <a:t>ХЗ.6 дел. = 1,8 В.</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Таково напряжение элемента без нагрузки. Но стоит подключить к его выводам, например, лампу от карманного фонаря на 2,5 В, и напряжение упадет почти до 1,5 В — в этом можете убедиться сами.</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Аналогично измерьте напряжение других имеющихся в вашем распоряжение. гальванических элементов (343, 332, 316), а также батарей 3336, «Крона», выбирая в каждом случае кнопками переключателей 1 и 2 нужный диапазон измерений.</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p:txBody>
      </p:sp>
      <p:pic>
        <p:nvPicPr>
          <p:cNvPr id="353" name="Picture 2" descr=""/>
          <p:cNvPicPr/>
          <p:nvPr/>
        </p:nvPicPr>
        <p:blipFill>
          <a:blip r:embed="rId1"/>
          <a:stretch/>
        </p:blipFill>
        <p:spPr>
          <a:xfrm>
            <a:off x="5929200" y="2286000"/>
            <a:ext cx="3114720" cy="3000240"/>
          </a:xfrm>
          <a:prstGeom prst="rect">
            <a:avLst/>
          </a:prstGeom>
          <a:ln w="0">
            <a:noFill/>
          </a:ln>
        </p:spPr>
      </p:pic>
      <p:sp>
        <p:nvSpPr>
          <p:cNvPr id="354" name="TextBox 4"/>
          <p:cNvSpPr/>
          <p:nvPr/>
        </p:nvSpPr>
        <p:spPr>
          <a:xfrm>
            <a:off x="7072200" y="5429160"/>
            <a:ext cx="150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7</a:t>
            </a:r>
            <a:endParaRPr b="0" lang="en-US" sz="1800" spc="-1" strike="noStrike">
              <a:solidFill>
                <a:srgbClr val="000000"/>
              </a:solidFill>
              <a:latin typeface="Corbe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Используемая литература</a:t>
            </a:r>
            <a:endParaRPr b="0" lang="en-US" sz="4300" spc="-1" strike="noStrike">
              <a:solidFill>
                <a:srgbClr val="572314"/>
              </a:solidFill>
              <a:latin typeface="Corbel"/>
            </a:endParaRPr>
          </a:p>
        </p:txBody>
      </p:sp>
      <p:sp>
        <p:nvSpPr>
          <p:cNvPr id="35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Борноволоков Э., Кривопалов В. </a:t>
            </a:r>
            <a:r>
              <a:rPr b="0" lang="ru-RU" sz="2000" spc="-1" strike="noStrike">
                <a:solidFill>
                  <a:srgbClr val="000000"/>
                </a:solidFill>
                <a:latin typeface="Corbel"/>
              </a:rPr>
              <a:t>Электронный осциллограф.— Радио, 1970, № 10,</a:t>
            </a:r>
            <a:br>
              <a:rPr sz="2000"/>
            </a:br>
            <a:r>
              <a:rPr b="0" lang="ru-RU" sz="2000" spc="-1" strike="noStrike">
                <a:solidFill>
                  <a:srgbClr val="000000"/>
                </a:solidFill>
                <a:latin typeface="Corbel"/>
              </a:rPr>
              <a:t>с. 49, 50; № 11, с. 44—46; № 12, с. 43—45.</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Евсюков </a:t>
            </a:r>
            <a:r>
              <a:rPr b="0" lang="ru-RU" sz="2000" spc="-1" strike="noStrike">
                <a:solidFill>
                  <a:srgbClr val="000000"/>
                </a:solidFill>
                <a:latin typeface="Corbel"/>
              </a:rPr>
              <a:t>А. А. Электронный осциллограф в преподавании физики.— М.: Просвещение, 1972.</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справочник).— М.: Энергоатомиздат, 1987.</a:t>
            </a:r>
            <a:r>
              <a:rPr b="1" lang="ru-RU" sz="2000" spc="-1" strike="noStrike">
                <a:solidFill>
                  <a:srgbClr val="000000"/>
                </a:solidFill>
                <a:latin typeface="Corbel"/>
              </a:rPr>
              <a:t> Измерения в электронике</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Новомлинов В. </a:t>
            </a:r>
            <a:r>
              <a:rPr b="0" lang="ru-RU" sz="2000" spc="-1" strike="noStrike">
                <a:solidFill>
                  <a:srgbClr val="000000"/>
                </a:solidFill>
                <a:latin typeface="Corbel"/>
              </a:rPr>
              <a:t>Осциллограф для радиолюбителей.— Радио, </a:t>
            </a:r>
            <a:r>
              <a:rPr b="1" lang="ru-RU" sz="2000" spc="-1" strike="noStrike">
                <a:solidFill>
                  <a:srgbClr val="000000"/>
                </a:solidFill>
                <a:latin typeface="Corbel"/>
              </a:rPr>
              <a:t>1981, </a:t>
            </a:r>
            <a:r>
              <a:rPr b="0" lang="ru-RU" sz="2000" spc="-1" strike="noStrike">
                <a:solidFill>
                  <a:srgbClr val="000000"/>
                </a:solidFill>
                <a:latin typeface="Corbel"/>
              </a:rPr>
              <a:t>№ 2, с. 29—33.</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Новопольский В. А. </a:t>
            </a:r>
            <a:r>
              <a:rPr b="0" lang="ru-RU" sz="2000" spc="-1" strike="noStrike">
                <a:solidFill>
                  <a:srgbClr val="000000"/>
                </a:solidFill>
                <a:latin typeface="Corbel"/>
              </a:rPr>
              <a:t>Как работать с осциллографом.— М.: Энергия, 1978.</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Соловов </a:t>
            </a:r>
            <a:r>
              <a:rPr b="0" lang="ru-RU" sz="2000" spc="-1" strike="noStrike">
                <a:solidFill>
                  <a:srgbClr val="000000"/>
                </a:solidFill>
                <a:latin typeface="Corbel"/>
              </a:rPr>
              <a:t>В. Я- Осциллографические измерения.— М.: Энергия, 1975.</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Чех </a:t>
            </a:r>
            <a:r>
              <a:rPr b="0" lang="ru-RU" sz="2000" spc="-1" strike="noStrike">
                <a:solidFill>
                  <a:srgbClr val="000000"/>
                </a:solidFill>
                <a:latin typeface="Corbel"/>
              </a:rPr>
              <a:t>И. Осциллографы в измерительной технике. Пер. с нем.— М.: Энергия, 1965.</a:t>
            </a:r>
            <a:endParaRPr b="0" lang="en-US" sz="20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orbe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Об авторе</a:t>
            </a:r>
            <a:endParaRPr b="0" lang="en-US" sz="4300" spc="-1" strike="noStrike">
              <a:solidFill>
                <a:srgbClr val="572314"/>
              </a:solidFill>
              <a:latin typeface="Corbel"/>
            </a:endParaRPr>
          </a:p>
        </p:txBody>
      </p:sp>
      <p:sp>
        <p:nvSpPr>
          <p:cNvPr id="358" name=""/>
          <p:cNvSpPr txBox="1"/>
          <p:nvPr/>
        </p:nvSpPr>
        <p:spPr>
          <a:xfrm>
            <a:off x="4642920" y="2571480"/>
            <a:ext cx="4208760" cy="2214360"/>
          </a:xfrm>
          <a:prstGeom prst="rect">
            <a:avLst/>
          </a:prstGeom>
          <a:noFill/>
          <a:ln w="0">
            <a:noFill/>
          </a:ln>
        </p:spPr>
        <p:txBody>
          <a:bodyPr lIns="90000" rIns="90000" tIns="46800" bIns="46800"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Губенко Иван</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Студент 2 курса </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специальности ВТиПО</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КГУ им. А. Байтурсынова</a:t>
            </a:r>
            <a:endParaRPr b="0" lang="en-US" sz="2800" spc="-1" strike="noStrike">
              <a:solidFill>
                <a:srgbClr val="000000"/>
              </a:solidFill>
              <a:latin typeface="Corbel"/>
            </a:endParaRPr>
          </a:p>
        </p:txBody>
      </p:sp>
      <p:pic>
        <p:nvPicPr>
          <p:cNvPr id="359" name="Picture 2" descr="PC040175"/>
          <p:cNvPicPr/>
          <p:nvPr/>
        </p:nvPicPr>
        <p:blipFill>
          <a:blip r:embed="rId1"/>
          <a:stretch/>
        </p:blipFill>
        <p:spPr>
          <a:xfrm>
            <a:off x="1214280" y="1500120"/>
            <a:ext cx="3286440" cy="43815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Введение</a:t>
            </a:r>
            <a:endParaRPr b="0" lang="en-US" sz="4300" spc="-1" strike="noStrike">
              <a:solidFill>
                <a:srgbClr val="572314"/>
              </a:solidFill>
              <a:latin typeface="Corbel"/>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Без электронного осциллографа сегодня немыслимо быстро и качественно настроить практически любое устройство — от детекторного приемника до телевизора. Осциллограф — «глаза» радиолюбителя, позволяющие вторгаться в мир электронных процессов радиоконструкции, наблюдать форму сигнала и измерять его такие параметры, как амплитуду и длительность импульсов, скорость их нарастания и спада, амплитуду пульсаций выпрямленного напряжения, частоту электрических колебаний, напряжения в различных цепях каскадов. Осциллограф не только существенно упростит налаживание конструкции, но и поможет быстрее и лучше усвоить теоретические основы радиотехники, провести немало интересных опытов, экспериментов, разнообразных исследовательских работ.</a:t>
            </a:r>
            <a:endParaRPr b="0" lang="en-US" sz="20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Конечно, все это станет реальным лишь при хорошем знании устройства осциллографа, овладении методикой работы с ним.</a:t>
            </a:r>
            <a:endParaRPr b="0" lang="en-US" sz="20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Теория</a:t>
            </a:r>
            <a:endParaRPr b="0" lang="en-US" sz="4300" spc="-1" strike="noStrike">
              <a:solidFill>
                <a:srgbClr val="572314"/>
              </a:solidFill>
              <a:latin typeface="Corbel"/>
            </a:endParaRPr>
          </a:p>
        </p:txBody>
      </p:sp>
      <p:sp>
        <p:nvSpPr>
          <p:cNvPr id="326" name=""/>
          <p:cNvSpPr txBox="1"/>
          <p:nvPr/>
        </p:nvSpPr>
        <p:spPr>
          <a:xfrm>
            <a:off x="714240" y="1447560"/>
            <a:ext cx="8220240" cy="2909880"/>
          </a:xfrm>
          <a:prstGeom prst="rect">
            <a:avLst/>
          </a:prstGeom>
          <a:noFill/>
          <a:ln w="0">
            <a:noFill/>
          </a:ln>
        </p:spPr>
        <p:txBody>
          <a:bodyPr lIns="90000" rIns="90000" tIns="46800" bIns="46800" anchor="t">
            <a:normAutofit fontScale="90000"/>
          </a:bodyPr>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Слово «осциллограф» образовано от «осциллум» — колебание и «графо» — пишу. Отсюда и назначение этого измерительного прибора — отображать на экране кривые тока или напряжения в функции времени. Встречается и другое название этого прибора — осциллоскоп (от того же «осциллум» и «скопео» — смотрю) — прибор для наблюдения формы колебаний. И хотя второе название более точное, до сих пор в литературе бытует все же первое — осциллограф.</a:t>
            </a:r>
            <a:endParaRPr b="0" lang="en-US" sz="1400" spc="-1" strike="noStrike">
              <a:solidFill>
                <a:srgbClr val="000000"/>
              </a:solidFill>
              <a:latin typeface="Corbel"/>
            </a:endParaRPr>
          </a:p>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Основная деталь электронного осциллографа — электронно-лучевая трубка (рис. 1), напоминающая по форме телевизионный кинескоп, только значительно меньших габаритов. Экран трубки покрыт изнутри люминофором — веществом, способным светиться под «ударами» электронов. Чем больше поток электронов, тем ярче свечение той части экрана, куда они попадают.</a:t>
            </a:r>
            <a:endParaRPr b="0" lang="en-US" sz="1400" spc="-1" strike="noStrike">
              <a:solidFill>
                <a:srgbClr val="000000"/>
              </a:solidFill>
              <a:latin typeface="Corbel"/>
            </a:endParaRPr>
          </a:p>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Испускаются же электроны так называемой электронной пушкой, размещенной на противоположном от экрана конце трубки. Между пушкой и экраном размещены управляющие электроды — модулятор, регулирующий поток летящих к экрану электронов, два анода, создающих нужное ускорение пучка электронов и его фокусировку, и две пары пластин, с помощью которых электроны можно отклонять по горизонтальной (</a:t>
            </a:r>
            <a:r>
              <a:rPr b="0" lang="en-US" sz="1400" spc="-1" strike="noStrike">
                <a:solidFill>
                  <a:srgbClr val="000000"/>
                </a:solidFill>
                <a:latin typeface="Gill Sans MT"/>
              </a:rPr>
              <a:t>X</a:t>
            </a:r>
            <a:r>
              <a:rPr b="0" lang="ru-RU" sz="1400" spc="-1" strike="noStrike">
                <a:solidFill>
                  <a:srgbClr val="000000"/>
                </a:solidFill>
                <a:latin typeface="Corbel"/>
              </a:rPr>
              <a:t>) и вертикальной (</a:t>
            </a:r>
            <a:r>
              <a:rPr b="0" lang="en-US" sz="1400" spc="-1" strike="noStrike">
                <a:solidFill>
                  <a:srgbClr val="000000"/>
                </a:solidFill>
                <a:latin typeface="Gill Sans MT"/>
              </a:rPr>
              <a:t>Y</a:t>
            </a:r>
            <a:r>
              <a:rPr b="0" lang="ru-RU" sz="1400" spc="-1" strike="noStrike">
                <a:solidFill>
                  <a:srgbClr val="000000"/>
                </a:solidFill>
                <a:latin typeface="Corbel"/>
              </a:rPr>
              <a:t>) осям</a:t>
            </a:r>
            <a:r>
              <a:rPr b="0" lang="ru-RU" sz="1800" spc="-1" strike="noStrike">
                <a:solidFill>
                  <a:srgbClr val="000000"/>
                </a:solidFill>
                <a:latin typeface="Corbel"/>
              </a:rPr>
              <a:t>.</a:t>
            </a:r>
            <a:endParaRPr b="0" lang="en-US" sz="1800" spc="-1" strike="noStrike">
              <a:solidFill>
                <a:srgbClr val="000000"/>
              </a:solidFill>
              <a:latin typeface="Corbel"/>
            </a:endParaRPr>
          </a:p>
        </p:txBody>
      </p:sp>
      <p:pic>
        <p:nvPicPr>
          <p:cNvPr id="327" name="Picture 3" descr=""/>
          <p:cNvPicPr/>
          <p:nvPr/>
        </p:nvPicPr>
        <p:blipFill>
          <a:blip r:embed="rId1"/>
          <a:stretch/>
        </p:blipFill>
        <p:spPr>
          <a:xfrm>
            <a:off x="2071800" y="4286160"/>
            <a:ext cx="6143400" cy="2214720"/>
          </a:xfrm>
          <a:prstGeom prst="rect">
            <a:avLst/>
          </a:prstGeom>
          <a:ln w="0">
            <a:noFill/>
          </a:ln>
        </p:spPr>
      </p:pic>
      <p:sp>
        <p:nvSpPr>
          <p:cNvPr id="328" name="TextBox 7"/>
          <p:cNvSpPr/>
          <p:nvPr/>
        </p:nvSpPr>
        <p:spPr>
          <a:xfrm>
            <a:off x="1114200" y="52862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1</a:t>
            </a:r>
            <a:endParaRPr b="0" lang="en-US" sz="1800" spc="-1" strike="noStrike">
              <a:solidFill>
                <a:srgbClr val="000000"/>
              </a:solidFill>
              <a:latin typeface="Corbe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Теория</a:t>
            </a:r>
            <a:endParaRPr b="0" lang="en-US" sz="4300" spc="-1" strike="noStrike">
              <a:solidFill>
                <a:srgbClr val="572314"/>
              </a:solidFill>
              <a:latin typeface="Corbel"/>
            </a:endParaRPr>
          </a:p>
        </p:txBody>
      </p:sp>
      <p:sp>
        <p:nvSpPr>
          <p:cNvPr id="330" name=""/>
          <p:cNvSpPr txBox="1"/>
          <p:nvPr/>
        </p:nvSpPr>
        <p:spPr>
          <a:xfrm>
            <a:off x="642960" y="1447560"/>
            <a:ext cx="8291520" cy="3267000"/>
          </a:xfrm>
          <a:prstGeom prst="rect">
            <a:avLst/>
          </a:prstGeom>
          <a:noFill/>
          <a:ln w="0">
            <a:noFill/>
          </a:ln>
        </p:spPr>
        <p:txBody>
          <a:bodyPr lIns="90000" rIns="90000" tIns="46800" bIns="46800"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Экран электронно-лучевой трубки будет светиться лишь при подаче на ее электроды определенных напряжений. На нить накала обычно подают переменное напряжение, на управляющий электрод (модулятор) — постоянное отрицательной полярности по отношению к катоду, на аноды — положительное, причем на первом аноде (фокусирующем) напряжение значительно меньше, чем на втором (ускоряющем). На отклоняющие пластины подается как постоянное напряжение, позволяющее смещать пучок электронов в любую сторону относительно центра экрана, так и переменное, создающее линию развертки той или иной длины, а также «рисующее» на экране форму исследуемых колебаний.</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Чтобы представить, как же получается форма колебаний на экране, изобра­зим условно экран трубки в виде окружности (хотя у трубки 6ЛО1И в ОМЛ-2М и ОМЛ-ЗМ он прямоугольный) и поместим внутри ее отклоняющие пластины (рис. 2). Если подвести к горизонтальным пластинам </a:t>
            </a:r>
            <a:r>
              <a:rPr b="0" lang="en-US" sz="1200" spc="-1" strike="noStrike">
                <a:solidFill>
                  <a:srgbClr val="000000"/>
                </a:solidFill>
                <a:latin typeface="Gill Sans MT"/>
              </a:rPr>
              <a:t>X</a:t>
            </a:r>
            <a:r>
              <a:rPr b="0" lang="ru-RU" sz="1200" spc="-1" strike="noStrike">
                <a:solidFill>
                  <a:srgbClr val="000000"/>
                </a:solidFill>
                <a:latin typeface="Corbel"/>
              </a:rPr>
              <a:t>1 и Х2 пилообразное напряжение, на экране появится светящаяся горизонтальная линия — ее называют линией развертки или просто разверткой. Длина ее зависит от амплитуды пило­образного напряжения.</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Если теперь подать на другую пару пластин (вертикальных — </a:t>
            </a:r>
            <a:r>
              <a:rPr b="0" lang="en-US" sz="1200" spc="-1" strike="noStrike">
                <a:solidFill>
                  <a:srgbClr val="000000"/>
                </a:solidFill>
                <a:latin typeface="Gill Sans MT"/>
              </a:rPr>
              <a:t>Y</a:t>
            </a:r>
            <a:r>
              <a:rPr b="0" lang="ru-RU" sz="1200" spc="-1" strike="noStrike">
                <a:solidFill>
                  <a:srgbClr val="000000"/>
                </a:solidFill>
                <a:latin typeface="Corbel"/>
              </a:rPr>
              <a:t>, и </a:t>
            </a:r>
            <a:r>
              <a:rPr b="0" lang="en-US" sz="1200" spc="-1" strike="noStrike">
                <a:solidFill>
                  <a:srgbClr val="000000"/>
                </a:solidFill>
                <a:latin typeface="Gill Sans MT"/>
              </a:rPr>
              <a:t>Y</a:t>
            </a:r>
            <a:r>
              <a:rPr b="0" lang="ru-RU" sz="1200" spc="-1" strike="noStrike" baseline="-25000">
                <a:solidFill>
                  <a:srgbClr val="000000"/>
                </a:solidFill>
                <a:latin typeface="Corbel"/>
              </a:rPr>
              <a:t>2</a:t>
            </a:r>
            <a:r>
              <a:rPr b="0" lang="ru-RU" sz="1200" spc="-1" strike="noStrike">
                <a:solidFill>
                  <a:srgbClr val="000000"/>
                </a:solidFill>
                <a:latin typeface="Corbel"/>
              </a:rPr>
              <a:t>), например, переменное напряжение синусоидальной формы, линия развертки в точности «изогнется» по форме колебаний и «нарисует» на экране изображение. В случае равенства периодов синусоидального и пилообразного колебаний на экране будет изображение одной «синусоиды». При неравенстве же периодов на экране появится столько полных колебаний, сколько периодов их укладывается в периоде колебаний пилообразного напряжения развертки. В осциллографе есть регулировка частоты развертки, с помощью которой добиваются нужного числа наблюдаемых на экране колебаний исследуемого сигнала.</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p:txBody>
      </p:sp>
      <p:pic>
        <p:nvPicPr>
          <p:cNvPr id="331" name="Picture 2" descr=""/>
          <p:cNvPicPr/>
          <p:nvPr/>
        </p:nvPicPr>
        <p:blipFill>
          <a:blip r:embed="rId1"/>
          <a:stretch/>
        </p:blipFill>
        <p:spPr>
          <a:xfrm>
            <a:off x="2071800" y="4500720"/>
            <a:ext cx="5286240" cy="1993680"/>
          </a:xfrm>
          <a:prstGeom prst="rect">
            <a:avLst/>
          </a:prstGeom>
          <a:ln w="0">
            <a:noFill/>
          </a:ln>
        </p:spPr>
      </p:pic>
      <p:sp>
        <p:nvSpPr>
          <p:cNvPr id="332" name="TextBox 4"/>
          <p:cNvSpPr/>
          <p:nvPr/>
        </p:nvSpPr>
        <p:spPr>
          <a:xfrm>
            <a:off x="1121400" y="542916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2</a:t>
            </a:r>
            <a:endParaRPr b="0" lang="en-US" sz="1800" spc="-1" strike="noStrike">
              <a:solidFill>
                <a:srgbClr val="000000"/>
              </a:solidFill>
              <a:latin typeface="Corbe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631440"/>
            <a:ext cx="793404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Структурная схема осциллографа</a:t>
            </a:r>
            <a:br>
              <a:rPr sz="3900"/>
            </a:br>
            <a:endParaRPr b="0" lang="en-US" sz="3900" spc="-1" strike="noStrike">
              <a:solidFill>
                <a:srgbClr val="572314"/>
              </a:solidFill>
              <a:latin typeface="Corbel"/>
            </a:endParaRPr>
          </a:p>
        </p:txBody>
      </p:sp>
      <p:sp>
        <p:nvSpPr>
          <p:cNvPr id="334" name=""/>
          <p:cNvSpPr txBox="1"/>
          <p:nvPr/>
        </p:nvSpPr>
        <p:spPr>
          <a:xfrm>
            <a:off x="642960" y="1447560"/>
            <a:ext cx="8291520" cy="1909800"/>
          </a:xfrm>
          <a:prstGeom prst="rect">
            <a:avLst/>
          </a:prstGeom>
          <a:noFill/>
          <a:ln w="0">
            <a:noFill/>
          </a:ln>
        </p:spPr>
        <p:txBody>
          <a:bodyPr lIns="90000" rIns="90000" tIns="46800" bIns="46800" anchor="t">
            <a:normAutofit fontScale="97000"/>
          </a:bodyPr>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Теперь, когда вы имеете представление о назначении и работе электронно­лучевой трубки, можно познакомиться со структурной схемой изучаемого осциллографа (рис. 3) и комплектом узлов, питающих электроды трубки.</a:t>
            </a:r>
            <a:endParaRPr b="0" lang="en-US" sz="1500" spc="-1" strike="noStrike">
              <a:solidFill>
                <a:srgbClr val="000000"/>
              </a:solidFill>
              <a:latin typeface="Corbel"/>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Во-первых, это генератор развертки, выдающий пилообразное напряжение, частоту которого можно изменять кнопочными переключателями (кнопки 3—6 на лицевой панели осциллографа). Диапазон частот генератора весьма широк — </a:t>
            </a:r>
            <a:r>
              <a:rPr b="0" lang="en-US" sz="1500" spc="-1" strike="noStrike">
                <a:solidFill>
                  <a:srgbClr val="000000"/>
                </a:solidFill>
                <a:latin typeface="Gill Sans MT"/>
              </a:rPr>
              <a:t>o</a:t>
            </a:r>
            <a:r>
              <a:rPr b="0" lang="ru-RU" sz="1500" spc="-1" strike="noStrike">
                <a:solidFill>
                  <a:srgbClr val="000000"/>
                </a:solidFill>
                <a:latin typeface="Corbel"/>
              </a:rPr>
              <a:t>т единиц герц до единиц мегагерц. Правда, около кнопок переключателей диапазонов проставлены значения длительности (продолжительности) пилообразных колебаний, а не их частоты. </a:t>
            </a:r>
            <a:endParaRPr b="0" lang="en-US" sz="1500" spc="-1" strike="noStrike">
              <a:solidFill>
                <a:srgbClr val="000000"/>
              </a:solidFill>
              <a:latin typeface="Corbel"/>
            </a:endParaRPr>
          </a:p>
        </p:txBody>
      </p:sp>
      <p:pic>
        <p:nvPicPr>
          <p:cNvPr id="335" name="Picture 2" descr=""/>
          <p:cNvPicPr/>
          <p:nvPr/>
        </p:nvPicPr>
        <p:blipFill>
          <a:blip r:embed="rId1"/>
          <a:stretch/>
        </p:blipFill>
        <p:spPr>
          <a:xfrm>
            <a:off x="1000080" y="3214800"/>
            <a:ext cx="3375000" cy="3286080"/>
          </a:xfrm>
          <a:prstGeom prst="rect">
            <a:avLst/>
          </a:prstGeom>
          <a:ln w="0">
            <a:noFill/>
          </a:ln>
        </p:spPr>
      </p:pic>
      <p:sp>
        <p:nvSpPr>
          <p:cNvPr id="336" name="Прямоугольник 4"/>
          <p:cNvSpPr/>
          <p:nvPr/>
        </p:nvSpPr>
        <p:spPr>
          <a:xfrm>
            <a:off x="4357800" y="3714840"/>
            <a:ext cx="45720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1,2 — переключатели делителей канала </a:t>
            </a:r>
            <a:r>
              <a:rPr b="0" lang="en-US" sz="1200" spc="-1" strike="noStrike">
                <a:solidFill>
                  <a:srgbClr val="000000"/>
                </a:solidFill>
                <a:latin typeface="Gill Sans MT"/>
              </a:rPr>
              <a:t>Y</a:t>
            </a:r>
            <a:r>
              <a:rPr b="0" lang="ru-RU" sz="1200" spc="-1" strike="noStrike">
                <a:solidFill>
                  <a:srgbClr val="000000"/>
                </a:solidFill>
                <a:latin typeface="Corbel"/>
              </a:rPr>
              <a:t>; 3—6—переключатели диапазонов частот (длительностей) развертки; 7 — переклю­чатель режима развертки; 8 — регулятор синхронизации; 9 — переключатель вида синхронизации; 10— переключатель входа канала </a:t>
            </a:r>
            <a:r>
              <a:rPr b="0" lang="en-US" sz="1200" spc="-1" strike="noStrike">
                <a:solidFill>
                  <a:srgbClr val="000000"/>
                </a:solidFill>
                <a:latin typeface="Gill Sans MT"/>
              </a:rPr>
              <a:t>X</a:t>
            </a:r>
            <a:r>
              <a:rPr b="0" lang="ru-RU" sz="1200" spc="-1" strike="noStrike">
                <a:solidFill>
                  <a:srgbClr val="000000"/>
                </a:solidFill>
                <a:latin typeface="Corbel"/>
              </a:rPr>
              <a:t>; 11 — регулятор длины развертки; 12 — гнезда входа канала </a:t>
            </a:r>
            <a:r>
              <a:rPr b="0" lang="en-US" sz="1200" spc="-1" strike="noStrike">
                <a:solidFill>
                  <a:srgbClr val="000000"/>
                </a:solidFill>
                <a:latin typeface="Gill Sans MT"/>
              </a:rPr>
              <a:t>X</a:t>
            </a:r>
            <a:r>
              <a:rPr b="0" lang="ru-RU" sz="1200" spc="-1" strike="noStrike">
                <a:solidFill>
                  <a:srgbClr val="000000"/>
                </a:solidFill>
                <a:latin typeface="Corbel"/>
              </a:rPr>
              <a:t>; 13 — переключатель вида входа канала </a:t>
            </a:r>
            <a:r>
              <a:rPr b="0" lang="en-US" sz="1200" spc="-1" strike="noStrike">
                <a:solidFill>
                  <a:srgbClr val="000000"/>
                </a:solidFill>
                <a:latin typeface="Gill Sans MT"/>
              </a:rPr>
              <a:t>Y</a:t>
            </a:r>
            <a:r>
              <a:rPr b="0" lang="ru-RU" sz="1200" spc="-1" strike="noStrike">
                <a:solidFill>
                  <a:srgbClr val="000000"/>
                </a:solidFill>
                <a:latin typeface="Corbel"/>
              </a:rPr>
              <a:t>; 14 — разъ­ем входа канала </a:t>
            </a:r>
            <a:r>
              <a:rPr b="0" lang="en-US" sz="1200" spc="-1" strike="noStrike">
                <a:solidFill>
                  <a:srgbClr val="000000"/>
                </a:solidFill>
                <a:latin typeface="Gill Sans MT"/>
              </a:rPr>
              <a:t>Y</a:t>
            </a:r>
            <a:r>
              <a:rPr b="0" lang="ru-RU" sz="1200" spc="-1" strike="noStrike">
                <a:solidFill>
                  <a:srgbClr val="000000"/>
                </a:solidFill>
                <a:latin typeface="Corbel"/>
              </a:rPr>
              <a:t>; 15 — регулятор пере­мещения луча по оси </a:t>
            </a:r>
            <a:r>
              <a:rPr b="0" lang="en-US" sz="1200" spc="-1" strike="noStrike">
                <a:solidFill>
                  <a:srgbClr val="000000"/>
                </a:solidFill>
                <a:latin typeface="Gill Sans MT"/>
              </a:rPr>
              <a:t>X</a:t>
            </a:r>
            <a:r>
              <a:rPr b="0" lang="ru-RU" sz="1200" spc="-1" strike="noStrike">
                <a:solidFill>
                  <a:srgbClr val="000000"/>
                </a:solidFill>
                <a:latin typeface="Corbel"/>
              </a:rPr>
              <a:t>; 16 — регулятор фокусировки; 17— регулятор перемещения луча по оси </a:t>
            </a:r>
            <a:r>
              <a:rPr b="0" lang="en-US" sz="1200" spc="-1" strike="noStrike">
                <a:solidFill>
                  <a:srgbClr val="000000"/>
                </a:solidFill>
                <a:latin typeface="Gill Sans MT"/>
              </a:rPr>
              <a:t>Y</a:t>
            </a:r>
            <a:r>
              <a:rPr b="0" lang="ru-RU" sz="1200" spc="-1" strike="noStrike">
                <a:solidFill>
                  <a:srgbClr val="000000"/>
                </a:solidFill>
                <a:latin typeface="Corbel"/>
              </a:rPr>
              <a:t>; 18 — регулятор яркости луча  и выключатель питания</a:t>
            </a:r>
            <a:endParaRPr b="0" lang="en-US" sz="1200" spc="-1" strike="noStrike">
              <a:solidFill>
                <a:srgbClr val="000000"/>
              </a:solidFill>
              <a:latin typeface="Corbel"/>
            </a:endParaRPr>
          </a:p>
        </p:txBody>
      </p:sp>
      <p:sp>
        <p:nvSpPr>
          <p:cNvPr id="337" name="TextBox 5"/>
          <p:cNvSpPr/>
          <p:nvPr/>
        </p:nvSpPr>
        <p:spPr>
          <a:xfrm>
            <a:off x="4543200" y="60008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3</a:t>
            </a:r>
            <a:endParaRPr b="0" lang="en-US" sz="1800" spc="-1" strike="noStrike">
              <a:solidFill>
                <a:srgbClr val="000000"/>
              </a:solidFill>
              <a:latin typeface="Corbe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39" name=""/>
          <p:cNvSpPr txBox="1"/>
          <p:nvPr/>
        </p:nvSpPr>
        <p:spPr>
          <a:xfrm>
            <a:off x="642960" y="1447920"/>
            <a:ext cx="8291520" cy="541008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Теперь, когда вы имеете представление об устройстве осциллографа и назначении его кнопок и ручек управления, можно включить прибор. Но предварительно заземлите его, соединив проводником зажим на задней стенке, например, с водопроводной трубой или другой металлической конструкцией, имеющей надежное заземление. Затем поставьте все кнопки в отжатое положение, кроме кнопок «0,5—50» переключателя 1 и «1—0,1 —10» переключателя 3 — они должны быть нажаты. Регулятор длины развертки 11 поставьте в крайнее положение по часовой стрелке, регулятор яркости 18 — в крайнее положение против часовой стрелки, остальные регуляторы — примерно в среднее положение. К гнездам 12 и разъему 14 пока ничего не подключайте.</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Вставив вилку питания осциллографа в сетевую розетку, поверните регулятор яркости по часовой стрелке до появления щелчка (осциллограф включен) и дайте осциллографу прогреться минут 5...7. После этого поверните регулятор яркости по часовой стрелке до появления светящейся линии на экране (линия развертки), сфокусируйте ее регулятором 16, а регуляторами 15 и 17 сместите линию так, чтобы она начиналась у крайнего левого вертикального деления масштабной сетки и проходила по ее средней горизонтальной линии (рис. 4, а).</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Нажмите кнопку «0,01 — 1» переключателя 1 —линия развертки может сме­ститься вверх или вниз. Это будет свидетельствовать о разбалансировке усилителя вертикального отклонения. Если смещение не превышает одного деления масштабной сетки (рис. 4, б), все в порядке. При большем смещении (рис. 4, в) нужно сбалансировать усилитель подстрочным резистором, расположенным за отверстием на правой боковой стенке кожуха (рис. 4, г) — оно показано на рисунке в инструкции. Движок резистора поворачивают отверткой так, чтобы линия возвратилась на прежнее место.</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41" name=""/>
          <p:cNvSpPr txBox="1"/>
          <p:nvPr/>
        </p:nvSpPr>
        <p:spPr>
          <a:xfrm>
            <a:off x="1000080" y="1447560"/>
            <a:ext cx="7786800" cy="226692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Вставьте в разъем 14 «Вход </a:t>
            </a:r>
            <a:r>
              <a:rPr b="0" lang="en-US" sz="1400" spc="-1" strike="noStrike">
                <a:solidFill>
                  <a:srgbClr val="000000"/>
                </a:solidFill>
                <a:latin typeface="Gill Sans MT"/>
              </a:rPr>
              <a:t>Y</a:t>
            </a:r>
            <a:r>
              <a:rPr b="0" lang="ru-RU" sz="1400" spc="-1" strike="noStrike">
                <a:solidFill>
                  <a:srgbClr val="000000"/>
                </a:solidFill>
                <a:latin typeface="Corbel"/>
              </a:rPr>
              <a:t>» выносной кабель и дотроньтесь пальцем до входного щупа (рис. 5, а) — им заканчивается кабель. Если была нажата кнопка «0,5—50», линия на экране едва «утолщится» в результате сигнала наводок переменного тока на входном щупе. Последовательным нажатием кнопок «0,1 — 10», «0,05—5», «0,02—2» добейтесь, чтобы на экране было изображение высотой 2...4 деления.</a:t>
            </a:r>
            <a:endParaRPr b="0" lang="en-US" sz="1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Вы, конечно, знаете, что сигнал наводок переменного тока синусоидальной формы, частотой, равной частоте сети,— 50 Гц. Но на экране пока видна широкая дорожка бесформенного сигнала, линии которого перемещаются либо влево, либо вправо. Нужно остановить «бег» линий и рассмотреть сигнал. А для этого надо</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42" name="Picture 2" descr=""/>
          <p:cNvPicPr/>
          <p:nvPr/>
        </p:nvPicPr>
        <p:blipFill>
          <a:blip r:embed="rId1"/>
          <a:stretch/>
        </p:blipFill>
        <p:spPr>
          <a:xfrm>
            <a:off x="1714680" y="3286080"/>
            <a:ext cx="6613200" cy="2786040"/>
          </a:xfrm>
          <a:prstGeom prst="rect">
            <a:avLst/>
          </a:prstGeom>
          <a:ln w="0">
            <a:noFill/>
          </a:ln>
        </p:spPr>
      </p:pic>
      <p:sp>
        <p:nvSpPr>
          <p:cNvPr id="343" name="TextBox 4"/>
          <p:cNvSpPr/>
          <p:nvPr/>
        </p:nvSpPr>
        <p:spPr>
          <a:xfrm>
            <a:off x="2264400" y="614376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4</a:t>
            </a:r>
            <a:endParaRPr b="0" lang="en-US" sz="1800" spc="-1" strike="noStrike">
              <a:solidFill>
                <a:srgbClr val="000000"/>
              </a:solidFill>
              <a:latin typeface="Corbel"/>
            </a:endParaRPr>
          </a:p>
        </p:txBody>
      </p:sp>
      <p:sp>
        <p:nvSpPr>
          <p:cNvPr id="344" name="TextBox 5"/>
          <p:cNvSpPr/>
          <p:nvPr/>
        </p:nvSpPr>
        <p:spPr>
          <a:xfrm>
            <a:off x="6332400" y="6072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5</a:t>
            </a:r>
            <a:endParaRPr b="0" lang="en-US" sz="1800" spc="-1" strike="noStrike">
              <a:solidFill>
                <a:srgbClr val="000000"/>
              </a:solidFill>
              <a:latin typeface="Corbe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46" name=""/>
          <p:cNvSpPr txBox="1"/>
          <p:nvPr/>
        </p:nvSpPr>
        <p:spPr>
          <a:xfrm>
            <a:off x="785520" y="1447920"/>
            <a:ext cx="8148600" cy="505296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подобрать длительность пилообразного напряжения развертки примерно равно» или кратной длительности одного полного колебания сигнала.</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Нажмите кнопку «2—0,2—20» переключателя 3 и ручками синхронизации 8 и длины развертки 11 постарайтесь «остановить» изображение. На экране при этом удастся наблюдать несколько периодов или полупериодов синусоидальных колебаний (рис. 5, б), что свидетельствует о приближении к намеченной цели.</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А теперь нажмите следующую кнопку переключателя 3 — 5—0,5—50* и снова попытайтесь «остановить» изображение указанными ручками. На этот раз удастся увидеть на экране один или два полных периода синусоидального сигнала (рис. 5, в).</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Давайте определим параметры сигнала. Поскольку нажата кнопка «5—0,5—50» переключателя 3 и отжаты кнопки 4—6, цена деления масштабной сетки составляет 5 мс/дел. А период одного колебания (например, от вершины одного полупериода до вершины другого) занимает 4 деления. Поэтому длитель­ность периода равна 4 дел.Х5 мс/дел. =20 мс (0,02 с), а частота колебаний — 1:0,02 с = 50 Гц.</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Что же касается амплитуды (размаха) колебаний, ее нетрудно определить умножением числа делений по вертикали, которое занимает изображение, на цену деления, скажем, 5 В/дел, при нажатой кнопке «0,05—5». Для удобства отсчета нижнюю или верхнюю часть изображения подводят ручкой смещения луча по вертикали под ближайшую горизонтальную линию сетки и совмещают с ней. Еще удобнее при отсчете установить кнопками переключателей 3—6 такую длительность развертки, чтобы изображение сигнала слилось в широкую сплошную дорожку (как это было вначале).</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5040" y="274320"/>
            <a:ext cx="872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Измерение постоянного напряжения</a:t>
            </a:r>
            <a:endParaRPr b="0" lang="en-US" sz="3900" spc="-1" strike="noStrike">
              <a:solidFill>
                <a:srgbClr val="572314"/>
              </a:solidFill>
              <a:latin typeface="Corbel"/>
            </a:endParaRPr>
          </a:p>
        </p:txBody>
      </p:sp>
      <p:sp>
        <p:nvSpPr>
          <p:cNvPr id="348" name=""/>
          <p:cNvSpPr txBox="1"/>
          <p:nvPr/>
        </p:nvSpPr>
        <p:spPr>
          <a:xfrm>
            <a:off x="642600" y="1447560"/>
            <a:ext cx="5429160" cy="498132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Прежде чем начать знакомство с этим режимом, убедитесь, что кнопка 13 отжата, т. е. осциллограф работает с «открытым» входом. Кнопка «0,5—50» переключателя 1 должна быть нажата, а кнопка переключателя 2 — отжата. Такое положение кнопок соответствует наименьшей чувствительности осциллографа — с него желательно начинать измерения, особенно когда неизвестны параметры входного напряжения. Регулятором 17 установите линию развертки (генератор развертки работает в автоматическом режиме практически с любой длитель­ностью, лишь бы была сплошная линия) на середину масштабной сетки.</a:t>
            </a:r>
            <a:endParaRPr b="0" lang="en-US" sz="15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Подключите входные щупы осциллографа к выводам гальванического элемента 373 (рис. 6) и нажмите кнопку «0,01 — 1» — линия развертки сместится вверх или вниз, в зависимости от полярности подключения источника тока ко входу осциллографа. Если линия оказалась выше средней, значит, входной щуп подключен к плюсовому выводу элемента, а «земляной» — к минусовому (рис. 6, а). При смещении луча вниз полярность напряжения на щупах обратная (Рис.- 6, б).</a:t>
            </a:r>
            <a:endParaRPr b="0" lang="en-US" sz="15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endParaRPr b="0" lang="en-US" sz="1500" spc="-1" strike="noStrike">
              <a:solidFill>
                <a:srgbClr val="000000"/>
              </a:solidFill>
              <a:latin typeface="Corbel"/>
            </a:endParaRPr>
          </a:p>
        </p:txBody>
      </p:sp>
      <p:pic>
        <p:nvPicPr>
          <p:cNvPr id="349" name="Picture 2" descr=""/>
          <p:cNvPicPr/>
          <p:nvPr/>
        </p:nvPicPr>
        <p:blipFill>
          <a:blip r:embed="rId1"/>
          <a:stretch/>
        </p:blipFill>
        <p:spPr>
          <a:xfrm>
            <a:off x="5946840" y="1428840"/>
            <a:ext cx="3008160" cy="4214880"/>
          </a:xfrm>
          <a:prstGeom prst="rect">
            <a:avLst/>
          </a:prstGeom>
          <a:ln w="0">
            <a:noFill/>
          </a:ln>
        </p:spPr>
      </p:pic>
      <p:sp>
        <p:nvSpPr>
          <p:cNvPr id="350" name="TextBox 5"/>
          <p:cNvSpPr/>
          <p:nvPr/>
        </p:nvSpPr>
        <p:spPr>
          <a:xfrm>
            <a:off x="6929280" y="5786280"/>
            <a:ext cx="13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6</a:t>
            </a:r>
            <a:endParaRPr b="0" lang="en-US" sz="1800" spc="-1" strike="noStrike">
              <a:solidFill>
                <a:srgbClr val="000000"/>
              </a:solidFill>
              <a:latin typeface="Corbe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5:59:25Z</dcterms:created>
  <dc:creator>ING</dc:creator>
  <dc:description/>
  <dc:language>en-US</dc:language>
  <cp:lastModifiedBy>ING</cp:lastModifiedBy>
  <dcterms:modified xsi:type="dcterms:W3CDTF">2010-02-23T16:51:39Z</dcterms:modified>
  <cp:revision>10</cp:revision>
  <dc:subject/>
  <dc:title>Осциллограф</dc:title>
</cp:coreProperties>
</file>